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DF2-303C-42DC-9364-BBC0F0DB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668-105C-42DD-9D4A-30A3211C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94C-5843-472B-9A98-CF6AABBD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E38-22C8-4A72-A194-5425AE72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5AA-BD97-417E-832C-824053A2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BCE-ABB0-481A-8488-49F4FAEB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43F-E94F-4ADD-9E0D-ABE7C5D9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085-5FE3-49C8-945E-D4FA6ADB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B1F-F343-46E9-91DA-74AA7BD7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F4D-242F-47D1-AB41-94C99CA1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DC5-6989-4C65-BEB3-86A98B61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4D5-69FA-4CE5-B919-DB99EE8B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1FE0-74EA-42B2-9174-981971BFF5DA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1735-7EB0-4AEC-9706-A67F60260E8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0"/>
          <p:cNvSpPr/>
          <p:nvPr/>
        </p:nvSpPr>
        <p:spPr>
          <a:xfrm>
            <a:off x="428760" y="2286000"/>
            <a:ext cx="82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ericolos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compresi quelli di cui all’art. 212 c. 8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on pericolos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 lavorazione industriali, artigianali, da recupero e smaltimento rifiuti, fanghi …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Art. 184 c. 3 lett. c, d e g)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mmercianti, intermedi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sorz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stituiti per il recupero e il riciclaggio di particolari tipologie di rifiu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che raccolgono 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rasportano rifiuti specia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art. 212 c. 5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che effettuano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operazioni di recupero e smalt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uni e gli Enti e le imprese che gestiscono i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rifiuti urba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nel territorio della Regione  Camp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1430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egnaposto numero diapositiv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720F-843E-4BF2-9CD1-315D2D1E7C6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47" name="Connettore 1 11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sellaDiTesto 9"/>
          <p:cNvSpPr/>
          <p:nvPr/>
        </p:nvSpPr>
        <p:spPr>
          <a:xfrm>
            <a:off x="7077960" y="628668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gue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ttangolo 7"/>
          <p:cNvGrpSpPr/>
          <p:nvPr/>
        </p:nvGrpSpPr>
        <p:grpSpPr>
          <a:xfrm>
            <a:off x="493560" y="2352600"/>
            <a:ext cx="7944120" cy="4322880"/>
            <a:chOff x="493560" y="2352600"/>
            <a:chExt cx="7944120" cy="4322880"/>
          </a:xfrm>
        </p:grpSpPr>
        <p:pic>
          <p:nvPicPr>
            <p:cNvPr id="51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352600"/>
              <a:ext cx="794412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0040" y="2357280"/>
              <a:ext cx="7929720" cy="42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rasporto marittimo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 il terminalista concessionario dell’area portuale di cui all’art. 18 della Legge 28 gennaio 1994, n. 84 e l’impresa portuale di cui all’art. 16 della citata Legge n. 84 del 1994, ai quali sono affidati i rifiuti in attesa di imbarco o allo sbarco, in attesa del successivo traspor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trasporto ferroviario, i responsabili degli uffici di gestione merci e gli operatori logistici presso le stazioni ferroviarie, gli interporti, gli impianti di terminalizzazione e gli scali merci ai quali sono affidati i rifiuti in attesa della presa in carico degli stessi da parte dell’impresa ferroviaria o dell’impresa che effettua il successivo traspor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4F8D-8B8A-44FE-85E1-84F5C49F51D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1214280"/>
            <a:ext cx="835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ettangolo 7"/>
          <p:cNvGrpSpPr/>
          <p:nvPr/>
        </p:nvGrpSpPr>
        <p:grpSpPr>
          <a:xfrm>
            <a:off x="493560" y="2779560"/>
            <a:ext cx="7944120" cy="2687760"/>
            <a:chOff x="493560" y="2779560"/>
            <a:chExt cx="7944120" cy="2687760"/>
          </a:xfrm>
        </p:grpSpPr>
        <p:pic>
          <p:nvPicPr>
            <p:cNvPr id="60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779560"/>
              <a:ext cx="794412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00040" y="2786040"/>
              <a:ext cx="7929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ericolosi 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&lt; 50 dipendent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compresi quelli di cui all’art. 212 c. 8 del Dlgs 152/200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prese e en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n pericolos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 lavorazione industriali, artigianali, da recupero e smaltimento rifiuti, fangh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… (Art. 184 c. 3 lett. c, d e g)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 da 11 a 50 dipenden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2052-07A8-4605-BF56-6A768BBBC45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285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Arial"/>
                <a:ea typeface="Calibri"/>
              </a:rPr>
              <a:t>Iscrizione SISTRI: </a:t>
            </a: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-6480" y="1994040"/>
            <a:ext cx="9156960" cy="51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6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38:45Z</dcterms:created>
  <dc:creator>Roberta Scarinci</dc:creator>
  <dc:description/>
  <dc:language>en-US</dc:language>
  <cp:lastModifiedBy>Cristina Zani</cp:lastModifiedBy>
  <dcterms:modified xsi:type="dcterms:W3CDTF">2010-06-03T14:10:27Z</dcterms:modified>
  <cp:revision>191</cp:revision>
  <dc:subject/>
  <dc:title>SISTRI</dc:title>
</cp:coreProperties>
</file>