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029E712-206D-4E23-A471-3830E4B074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E73E691-1CA0-438C-85ED-A81D459CA3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2C09-BF96-4595-B8EA-74C1F05981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0AD-6474-4FCA-9031-D780E9C9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807-555D-49D4-9076-A9B04621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4BF-D1C0-4685-B86C-86508E00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5C6-4371-460C-8DF7-A30F4FA2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2BD7-3475-4835-A760-1A7CF6FD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A738-6A46-4963-AA62-0B0985E6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1683-1A62-46F7-8E87-102965A4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853A-9462-4AC1-8D3A-A3F7F37A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997C-29DC-45B9-9C97-B0C7DAD6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3873-AA6D-4C87-9BE1-7025E317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16B1-E3F0-455B-935D-D1566921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012-9F4B-4076-8185-9E9671B6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3B3D-FCDD-4531-B9E4-11C0DC44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DB21-4938-4337-8110-B19C3355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2F0F-90B8-4BC4-A5E0-B4B5BC61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DB85-7EE9-459A-94A9-95541098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1F23-0A09-47A6-BC1E-84EDFC50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817-DC72-4FB2-AA51-FB99DEBB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E9D-37C6-42A7-9C01-926F9B5F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223-6965-4D66-AC24-2D44FDE6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D60-B963-4120-A805-75CFB49F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F2E-303F-4D81-BF2F-254D72D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B32-708A-4CD9-93CE-93BE655E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9CF-0960-4D93-9B60-E5CE4CEA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6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EF57-6C9E-4937-A2E6-A28DC9C31694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60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971640" y="1028880"/>
            <a:ext cx="7996320" cy="0"/>
          </a:xfrm>
          <a:prstGeom prst="line">
            <a:avLst/>
          </a:prstGeom>
          <a:ln w="1908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09520" y="264960"/>
            <a:ext cx="82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2819520"/>
            <a:ext cx="755640" cy="403848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9"/>
          <p:cNvSpPr/>
          <p:nvPr/>
        </p:nvSpPr>
        <p:spPr>
          <a:xfrm>
            <a:off x="0" y="0"/>
            <a:ext cx="755640" cy="2852640"/>
          </a:xfrm>
          <a:prstGeom prst="rect">
            <a:avLst/>
          </a:prstGeom>
          <a:noFill/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logo_mcc_orizzontale NO MCC"/>
          <p:cNvPicPr/>
          <p:nvPr/>
        </p:nvPicPr>
        <p:blipFill>
          <a:blip r:embed="rId2"/>
          <a:stretch/>
        </p:blipFill>
        <p:spPr>
          <a:xfrm>
            <a:off x="82440" y="-171360"/>
            <a:ext cx="563760" cy="3251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7828-3FF4-4E7A-9EFA-C0B44B26623E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5"/>
          <p:cNvSpPr/>
          <p:nvPr/>
        </p:nvSpPr>
        <p:spPr>
          <a:xfrm>
            <a:off x="1046160" y="3357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1046160" y="4149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0" y="0"/>
            <a:ext cx="755640" cy="685800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1042920" y="6165720"/>
            <a:ext cx="777420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8" descr="logo_mcc_orizzontale NO MCC"/>
          <p:cNvPicPr/>
          <p:nvPr/>
        </p:nvPicPr>
        <p:blipFill>
          <a:blip r:embed="rId2"/>
          <a:stretch/>
        </p:blipFill>
        <p:spPr>
          <a:xfrm>
            <a:off x="361800" y="477720"/>
            <a:ext cx="497844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042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430F-BABD-4AEB-94DA-49A6E8C96B5F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7652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436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DB8E-6A4E-405A-8319-AC90DC3B92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1763-16C6-4C2F-BF30-B6FACB9EE7AE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26920" y="252360"/>
            <a:ext cx="813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ttuazione del decreto 26 giugno 2012: le percentuali di copertura e l’importo massimo garant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0"/>
          <p:cNvSpPr/>
          <p:nvPr/>
        </p:nvSpPr>
        <p:spPr>
          <a:xfrm>
            <a:off x="971640" y="1105920"/>
            <a:ext cx="7993080" cy="23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Le percentuali di copertura e l’importo massimo garant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1"/>
          <p:cNvSpPr/>
          <p:nvPr/>
        </p:nvSpPr>
        <p:spPr>
          <a:xfrm>
            <a:off x="1001880" y="371628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39"/>
          <p:cNvSpPr/>
          <p:nvPr/>
        </p:nvSpPr>
        <p:spPr>
          <a:xfrm>
            <a:off x="1001880" y="138348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Garanzia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diret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40"/>
          <p:cNvSpPr/>
          <p:nvPr/>
        </p:nvSpPr>
        <p:spPr>
          <a:xfrm>
            <a:off x="1001880" y="408384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Controgaranz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41"/>
          <p:cNvSpPr/>
          <p:nvPr/>
        </p:nvSpPr>
        <p:spPr>
          <a:xfrm>
            <a:off x="1001880" y="645336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di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1042920" y="1733400"/>
            <a:ext cx="7777080" cy="198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77770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41:48Z</dcterms:created>
  <dc:creator>ccara</dc:creator>
  <dc:description/>
  <dc:language>en-US</dc:language>
  <cp:lastModifiedBy>FBrunori</cp:lastModifiedBy>
  <cp:lastPrinted>2012-11-08T12:02:55Z</cp:lastPrinted>
  <dcterms:modified xsi:type="dcterms:W3CDTF">2012-12-05T18:38:12Z</dcterms:modified>
  <cp:revision>470</cp:revision>
  <dc:subject/>
  <dc:title>Diapositiva 1</dc:title>
</cp:coreProperties>
</file>